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3B87-CB49-46AA-B0CD-2F7DDD250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8B5F-E434-4053-8ECA-EFE118D54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2A97-31C6-478E-8C60-D60C1228B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7C9F-695F-4A11-A977-26764984F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6209-3A1B-46B0-965D-D6F8911A0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D409-F7A2-4892-BED0-EC11B3331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107F-FC77-4FFD-87C2-254052D09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41E7-E6F1-4630-9363-A7A8AFB57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EE6-079F-4EC4-90C6-D3F515D27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0A1-855B-4C37-9E32-9FC613225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B45C-493C-4B4E-935E-F1C4BC5E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A84B-95AB-4919-9D1E-4B8C85F59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14E4-690D-4547-8BE0-6A6181A003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01qs.com/" TargetMode="External"/><Relationship Id="rId2" Type="http://schemas.openxmlformats.org/officeDocument/2006/relationships/hyperlink" Target="http://www.youtube.com/watch?v=jp_oyHY5bu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reencast.com/t/dApzpmm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BE59-DD6E-47D9-8777-638837BFC9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009E-0256-47E1-BCB6-52FDE94D4A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, e.g. numeric or algebraic or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E17F-65DB-4A01-A922-F8F64D3D90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or 3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D9E6-AFFD-4800-883E-6617D9C76C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there some you kept moving from category to category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DD78-1350-43FD-9427-A999495BD1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55A-3FB0-4DB8-9B13-C74DF6DF01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 Carlet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Secondary Math Teacher/Consultant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F625-C60F-4351-9F7C-D5C54D1A71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25A-19F9-49D0-A7A4-680EA3B2E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5425-181C-4DE5-ABA1-E8E1245FA0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DFEF-64E1-4A50-970A-672E28BF73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8E2-CF01-4FAA-9500-3485AD66AE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yellow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0B22-56F1-4183-B6D6-5EBEA34E9D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914400" y="3962520"/>
            <a:ext cx="22860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4419720"/>
            <a:ext cx="228600" cy="2286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981-7735-462D-A1C8-D5DD6D294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5148-D7B4-474C-8B8E-BAF79DD4A9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9F02-A1FA-43D6-B114-D4F3A4393A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01:16:09Z</dcterms:modified>
  <cp:revision>26</cp:revision>
  <dc:subject/>
  <dc:title>&lt;Title&gt;</dc:title>
</cp:coreProperties>
</file>